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4FD-E1D4-44BD-BAA5-AD054ED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891-CEA3-4F7E-8F0C-52630A79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2A5-51A3-4B72-8FDA-DAD20977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966-B78F-4875-8783-EF234CCB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704-25A1-4E04-845C-02FC8E44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7BA2-0A2D-403A-A30A-56C8431C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B8E-11C6-4E87-92CF-C3B8F74D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1722-852C-44D0-9A96-CE13472C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0265-F2A7-4B05-9CD9-FE8A9F2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FEE6-6B3C-47B6-9F96-1624E40B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E661-D9E7-4CE6-A3BF-75E8CAF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71B-0723-4482-9E87-1F08FFB2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DC3D-6EF7-4EB6-8664-519809C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0AC7-10FD-4840-8339-2CCD26C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02BE-0CFF-45A6-9F78-F6ABB08F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D1A8-B6C9-4917-AE64-C2D5E10F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006-75DF-41E0-9319-5465FFF3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105-B6C2-4135-B4DF-2D22BF3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436-DDF5-4AED-8420-6AC6E7D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1BA-57F9-4B6B-BF3B-41D2E8CD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388-8721-4DB9-BF5B-C53F2A5D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873-75F8-4E00-97BD-3200637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447-BA4B-43DF-977B-F61F68C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A6F-E137-4BB3-BC25-92A3380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676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AWG</a:t>
            </a: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lang="en-GB" sz="1000" spc="-1" strike="noStrike">
                <a:solidFill>
                  <a:srgbClr val="000066"/>
                </a:solidFill>
                <a:latin typeface="Times New Roman"/>
              </a:rPr>
              <a:t>200</a:t>
            </a:r>
            <a:r>
              <a:rPr b="0" lang="nl-NL" sz="1000" spc="-1" strike="noStrike">
                <a:solidFill>
                  <a:srgbClr val="000066"/>
                </a:solidFill>
                <a:latin typeface="Times New Roman"/>
              </a:rPr>
              <a:t>5/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05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9708-53DB-4E5F-B54E-C3160154A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927920" y="5745240"/>
            <a:ext cx="83520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47FA-E329-4A17-AD64-5DBF9DB6B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3352680" cy="1602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04040" y="163440"/>
            <a:ext cx="1382760" cy="1589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3657600"/>
            <a:ext cx="2819160" cy="6094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920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412720" y="400536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10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4180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01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744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08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42000" y="3933720"/>
              <a:ext cx="70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S-16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S1 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solved in last wee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FF… timestamps were not correctly detected and handled at the input clust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tracking and fringe stopping validated for short bas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7320240" cy="549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ndre Gunst</dc:creator>
  <dc:description/>
  <dc:language>en-US</dc:language>
  <cp:lastModifiedBy>Andre Gunst</cp:lastModifiedBy>
  <cp:lastPrinted>1999-11-09T09:34:59Z</cp:lastPrinted>
  <dcterms:modified xsi:type="dcterms:W3CDTF">2007-01-10T12:29:10Z</dcterms:modified>
  <cp:revision>227</cp:revision>
  <dc:subject/>
  <dc:title>LOFAR Introduction</dc:title>
</cp:coreProperties>
</file>